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DB5-0C1A-4B5B-8AED-90DDB968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847-0B93-4DB4-988A-8E6D1E26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7B7-3B2E-4A67-85FF-FF19358F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F3F-843C-42BA-9FF8-28D47C73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D3F3-21F9-4481-BAB4-660C9BB5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B83-3BCE-4007-AC40-3853FF26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3504-35D6-4C41-AA5F-EF3631F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9B24-721A-4B33-846F-F6156A4F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FF52-14EA-4CCE-B7A6-9F197DA9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7B78-2A18-494C-828E-CBDF7073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1942-7768-4BC2-B0C2-EC22C4BD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005-D6C1-4DE6-A52E-2E7FD39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E049-A640-49A2-8C30-25B28D9D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6971-00E1-4AF3-BA14-6EF55FA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0098-7541-43B4-ADAD-E8B98FEF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6299-B96F-4E05-928B-0A806503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B73B-BA85-4FE8-9C8A-D3AD3498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681-CB12-453C-8050-7ABC3BC7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B49-7A55-468B-B1D0-A2F62E1B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EE4-6548-49C9-82E1-EB6A476B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C06-16EB-426E-AE91-F78E7F4B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2F0-E204-469F-94E3-A14EFA1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CF1-FC97-4A4C-948C-6055DA7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682-B91D-4BF1-9C8A-869B5556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5E42-1027-45C1-B4ED-03C8D839C92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1A86-D30B-4A56-8A64-BF58F3231BE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411280" y="2637000"/>
            <a:ext cx="42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Script MT Bold"/>
              </a:rPr>
              <a:t>Daumier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Dos escult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466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Saltimbanquis err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31128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El levanta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7610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El</a:t>
            </a:r>
            <a:r>
              <a:rPr b="1" lang="en-US" sz="3900" spc="-1" strike="noStrike">
                <a:solidFill>
                  <a:srgbClr val="330066"/>
                </a:solidFill>
                <a:latin typeface="Script MT Bold"/>
              </a:rPr>
              <a:t> </a:t>
            </a: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coleccionista de impres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3471840" cy="434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457200" y="1719360"/>
          <a:ext cx="8229240" cy="4407120"/>
        </p:xfrm>
        <a:graphic>
          <a:graphicData uri="http://schemas.openxmlformats.org/drawingml/2006/table">
            <a:tbl>
              <a:tblPr/>
              <a:tblGrid>
                <a:gridCol w="430920"/>
                <a:gridCol w="7798320"/>
              </a:tblGrid>
              <a:tr h="44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Laveuse au Quai d'Anjo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881080" cy="42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3:06:02Z</dcterms:created>
  <dc:creator>Pc 5</dc:creator>
  <dc:description/>
  <dc:language>en-US</dc:language>
  <cp:lastModifiedBy>Pc 5</cp:lastModifiedBy>
  <dcterms:modified xsi:type="dcterms:W3CDTF">2008-12-19T13:12:41Z</dcterms:modified>
  <cp:revision>1</cp:revision>
  <dc:subject/>
  <dc:title>Diapositiva 1</dc:title>
</cp:coreProperties>
</file>